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D80A-387C-4588-9576-DCD3A645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EB63-A74B-4A4E-89F1-E75333FF0C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44BC-DDC2-42A8-90BB-55D854095B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49CA-A9AE-49F6-98F4-C35AE319B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A2AD-9202-4D95-A7E5-33D22658FB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323C-04C8-4F58-ACED-A5242E5926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CA40-1B3E-4992-BAB4-6AD9741B26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4796-2783-44E3-97D0-22D862CA08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D42-DA7A-4E06-B1C3-98171EE521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B2C0-2624-4A1A-A371-067E73EBDB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BBC-2204-48DE-BF11-B65C266F2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ECC8-0CA7-40FA-B2BC-E7A19BFEB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FFC9-6856-4AC3-A225-39834EE0E7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BC3D-1855-410F-ABB2-A6E202B5F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8B47-83B6-459C-894D-7CA7F956F4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230A-57D6-4A37-80ED-EEF41CD97B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EFDB-2EE9-4818-8F5C-C03A3A12A7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780C-C445-46DB-AEC6-9218AE7DC9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03D4-A33C-4988-9862-081B46DC6C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5C2C-EDFE-4FCC-9169-C993596BF8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222A-D8AE-434B-B8DF-AACFA480ED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356-26AE-4F17-832D-2D8849A9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93E-9541-4E4C-83D5-BE76A5F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04D-39C2-4602-84BA-38FFEC73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8ED-BA55-4BFB-AA59-DBF7ABC7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5C5-A24B-438A-8B38-3763FC58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ECC-6E17-4C1D-B982-C35896C3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6DF-4EEC-454E-A8C5-4F257D42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3CE-C5CD-40DF-AE15-4B164AE3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9D7-2674-460B-913D-9EBE11D7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F8E-7B69-46C2-BD05-CB0C2F6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81D-8253-48AC-8D28-1EEAFA6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991-1455-4DBC-880A-7D3A49E0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990D-5DD6-4FF4-82E1-29A18FE9D4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Five DYSFUNCTIONS of TEA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c08d"/>
                </a:solidFill>
                <a:latin typeface="Arial"/>
              </a:rPr>
              <a:t>Lack of COMMITME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g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t having clear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team is committed to their job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inability to move beyond deb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7" descr="MPj0439253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uggestions for overcoming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cading messaging-10min, take a moment to speak and assure that all team members agree on what needs to take place 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dlines- commitment to clear deadl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Risk exposure therapy- a team forces themselves to make a d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c08d"/>
                </a:solidFill>
                <a:latin typeface="Arial"/>
              </a:rPr>
              <a:t>Avoidance of ACCOUNTABILITY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ar of calling a teammate on thei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no buy-in then people will not hold each other accoun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Pj04373230000[1]"/>
          <p:cNvPicPr/>
          <p:nvPr/>
        </p:nvPicPr>
        <p:blipFill>
          <a:blip r:embed="rId1"/>
          <a:stretch/>
        </p:blipFill>
        <p:spPr>
          <a:xfrm>
            <a:off x="457200" y="1828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uggestions for overcoming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ation of goals and standards- set the behavioral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and Regular Progress Reviews- give feedback on behavioral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rewards- shifting the rewards away from individual performance to team achie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it takes to make a tea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ty around the major goal/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ing your team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ing go of the ego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lict/debate, eliminating con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w do we get the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is able to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he tone for the focus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elf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rid of the members that are not ready, cut out for, or don’t plan to work toward the vision of the school/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ossible Method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nual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  retreats off-site(3days) to discuss things like budgets successful planning or cascading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rterly staff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-site(2days) to discuss strategic discussions, employee performance, key issues team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ekly staff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-site(2 hours) discussions on goal progress, customer review, tactical issues, resolution, cascading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 hoc topical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 on-site(2 hours) discussions on strategic issues that cannot be adequately discussed during weekly staff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ducational Method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ch school should a similar method of meeting style.  It is how well do we disburse the information given, are we fully present or even present at all for that mat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school model (we have three schools in one buil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dership meetings (on-site, monthly, 1-2 hou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 team ( on-site, monthly, 1 hou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meetings (on-site, monthly, 30-45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x meetings (on-site, monthly,1 hou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 meetings (on-site, monthly,1 hou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hops (off-site, quarterly, 4-6 hou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work ultimately comes down to practicing a small set of principles over a long period of time (Lencioni,200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o acknowledge the imperfections of our school so that we can act as a functional t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elf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 re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 recognition for real contributions that are for the achievement of th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race common sense with uncommon levels of discipline and persis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individualistic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s dist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fc08d"/>
                </a:solidFill>
                <a:latin typeface="Arial"/>
              </a:rPr>
              <a:t>What makes a team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MPj04306300000[1]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ncioni, Patrick. 2002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The FIVE dysfunctions of a TEAM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sey-Boss Publication, San Francisco, C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Model of Chang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pSp>
        <p:nvGrpSpPr>
          <p:cNvPr id="54" name="SmartArt Placeholder 21510"/>
          <p:cNvGrpSpPr/>
          <p:nvPr/>
        </p:nvGrpSpPr>
        <p:grpSpPr>
          <a:xfrm>
            <a:off x="2436840" y="2013120"/>
            <a:ext cx="4270320" cy="3698280"/>
            <a:chOff x="2436840" y="2013120"/>
            <a:chExt cx="4270320" cy="3698280"/>
          </a:xfrm>
        </p:grpSpPr>
        <p:sp>
          <p:nvSpPr>
            <p:cNvPr id="55" name="_s1028"/>
            <p:cNvSpPr/>
            <p:nvPr/>
          </p:nvSpPr>
          <p:spPr>
            <a:xfrm flipV="1">
              <a:off x="4145040" y="2013120"/>
              <a:ext cx="853920" cy="739440"/>
            </a:xfrm>
            <a:custGeom>
              <a:avLst/>
              <a:gdLst>
                <a:gd name="textAreaLeft" fmla="*/ 306360 w 853920"/>
                <a:gd name="textAreaRight" fmla="*/ 547560 w 853920"/>
                <a:gd name="textAreaTop" fmla="*/ 265320 h 739440"/>
                <a:gd name="textAreaBottom" fmla="*/ 474120 h 73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_s1029"/>
            <p:cNvSpPr/>
            <p:nvPr/>
          </p:nvSpPr>
          <p:spPr>
            <a:xfrm flipV="1">
              <a:off x="3718080" y="2751840"/>
              <a:ext cx="1707840" cy="739800"/>
            </a:xfrm>
            <a:custGeom>
              <a:avLst/>
              <a:gdLst>
                <a:gd name="textAreaLeft" fmla="*/ 375480 w 1707840"/>
                <a:gd name="textAreaRight" fmla="*/ 1332360 w 1707840"/>
                <a:gd name="textAreaTop" fmla="*/ 162720 h 739800"/>
                <a:gd name="textAreaBottom" fmla="*/ 57708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countabil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_s1030"/>
            <p:cNvSpPr/>
            <p:nvPr/>
          </p:nvSpPr>
          <p:spPr>
            <a:xfrm flipV="1">
              <a:off x="3290760" y="3491640"/>
              <a:ext cx="2562480" cy="739800"/>
            </a:xfrm>
            <a:custGeom>
              <a:avLst/>
              <a:gdLst>
                <a:gd name="textAreaLeft" fmla="*/ 444600 w 2562480"/>
                <a:gd name="textAreaRight" fmla="*/ 2117880 w 2562480"/>
                <a:gd name="textAreaTop" fmla="*/ 128160 h 739800"/>
                <a:gd name="textAreaBottom" fmla="*/ 61164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mmit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 flipV="1">
              <a:off x="2863800" y="4231440"/>
              <a:ext cx="3416400" cy="739800"/>
            </a:xfrm>
            <a:custGeom>
              <a:avLst/>
              <a:gdLst>
                <a:gd name="textAreaLeft" fmla="*/ 514080 w 3416400"/>
                <a:gd name="textAreaRight" fmla="*/ 2902320 w 3416400"/>
                <a:gd name="textAreaTop" fmla="*/ 111240 h 739800"/>
                <a:gd name="textAreaBottom" fmla="*/ 62856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fli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1032"/>
            <p:cNvSpPr/>
            <p:nvPr/>
          </p:nvSpPr>
          <p:spPr>
            <a:xfrm flipV="1">
              <a:off x="2436840" y="4971240"/>
              <a:ext cx="4270320" cy="739800"/>
            </a:xfrm>
            <a:custGeom>
              <a:avLst/>
              <a:gdLst>
                <a:gd name="textAreaLeft" fmla="*/ 583200 w 4270320"/>
                <a:gd name="textAreaRight" fmla="*/ 3687120 w 4270320"/>
                <a:gd name="textAreaTop" fmla="*/ 100800 h 739800"/>
                <a:gd name="textAreaBottom" fmla="*/ 63900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c7b7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u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c08d"/>
                </a:solidFill>
                <a:latin typeface="Arial"/>
              </a:rPr>
              <a:t>Inattention to RESULT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nderstand that your status is not based off of what you do alone for the team but what you do for and with the te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can be no issues of the 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he issue of the team trying to seek individual attention and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MCPE06128_0000[1]"/>
          <p:cNvPicPr/>
          <p:nvPr/>
        </p:nvPicPr>
        <p:blipFill>
          <a:blip r:embed="rId1"/>
          <a:stretch/>
        </p:blipFill>
        <p:spPr>
          <a:xfrm>
            <a:off x="4572000" y="16002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uggestions for overcoming Result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 based rewards- tie the rewards to compen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declaration of results- commit public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c08d"/>
                </a:solidFill>
                <a:latin typeface="Arial"/>
              </a:rPr>
              <a:t>Absence of TRUS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uln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ave each person acknowledge their strengths and weaknesses to the t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MCBD05584_0000[1]"/>
          <p:cNvPicPr/>
          <p:nvPr/>
        </p:nvPicPr>
        <p:blipFill>
          <a:blip r:embed="rId1"/>
          <a:stretch/>
        </p:blipFill>
        <p:spPr>
          <a:xfrm>
            <a:off x="990720" y="1752480"/>
            <a:ext cx="32004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uggestions for overcoming Trust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History Exercise- 30minutes, have staff relate something personal of the past through a question that is gi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effectiveness exercise- 60minutes, have staff identify the single most important contribution that each team member m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ity and behavioral preferences profiles- 4hours, this tool provides practical and scientifically valid behavioral descriptions of team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c08d"/>
                </a:solidFill>
                <a:latin typeface="Arial"/>
              </a:rPr>
              <a:t>Fear of CONFLIC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457200" y="1371600"/>
          <a:ext cx="403560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40356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ficial Harm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one holds back their opinion and/or honest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ck of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uggestions for overcoming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acknowledge that conflict is prod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make sure meetings are lively and inter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minimize POLITICS (the schools are bad about this 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3:07:33Z</dcterms:created>
  <dc:creator>WSFCS Workstation</dc:creator>
  <dc:description/>
  <dc:language>en-US</dc:language>
  <cp:lastModifiedBy>AEURY</cp:lastModifiedBy>
  <dcterms:modified xsi:type="dcterms:W3CDTF">2011-10-31T14:59:09Z</dcterms:modified>
  <cp:revision>7</cp:revision>
  <dc:subject/>
  <dc:title>The Five DYSFUNCTIONS of TEAM</dc:title>
</cp:coreProperties>
</file>